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95DB-1F2C-4CF3-A448-44E522C94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E059-008A-4461-B55B-6588F980E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525F-0770-4E5D-9217-6225CC927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39B2-3AF5-4BA5-90DF-B88211C08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78E0-F34C-40A6-AC8F-9991CEA6F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E22B-BBE4-44FD-BA8B-4D206ACCA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0F61-5C84-4F89-8653-E9BB23A7A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4360-1776-4595-888B-4D790A69F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315F-8FAC-4DCE-BA23-96A76F325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07AD-DB0F-4FDF-BCFE-2DCCA43A5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5081-2C2E-4F4B-898C-284F92CA2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2567-3207-4F9E-9978-AC83709C0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4C7D-CF25-4DB3-8315-F9D41E2F6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33F5-B5F4-4858-A830-05CE6FBAC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1972-17C5-42E2-ADCF-385610CC2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F6BB-215E-49EA-A032-E39FAA3CA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4B2A-EB99-47D2-9B05-100E8BDC8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87DC-F1BD-478A-AF98-3F328C4C5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DFB7-B058-4D30-B868-C07AD5986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2382-7074-4EDA-AF40-65137760F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A359-596E-4301-B78F-54E4EAA04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3573-1333-44BC-9549-4222B0CF8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3D1C-BEEE-4AAA-ACB2-92E45EF4B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BD46-0075-481C-A2D5-947DCF32A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CC81-F3AA-4D6F-834E-99877C27D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DDDD-EB0E-4E9B-B4E7-D6772E5F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8B3E-CD27-4E47-B5B6-C6730860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C75-C38C-4B1F-8D6B-64086A55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BBF0-12BF-4DDD-B479-EF18CD43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9B41-21CE-4670-875C-1A84B404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99D5-432E-4E71-8CAF-0D468749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6A36-F835-4B1F-B702-DDADFA82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A237-AC54-438B-BCD9-FD65A5C3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DCFC-BC21-4212-A73F-400A9548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F0A7-D58B-4FBB-8029-F15E3481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1AA7-68BD-4D23-828A-A2975CC1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029-F8A5-4FDB-809D-DF4F6F12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CE3F-6CAF-4744-8A31-DAB60DF9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68B8-F9FC-47A9-99FD-5D07C43E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FA51-4FB4-49FD-9F43-07DC5A61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E9F9-2BEB-410B-9471-A121C090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B92B-1E6F-4DB3-8F7E-E68C209F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CCC50-7392-4781-BDB1-2058CBBF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0CFDE-4DA3-444D-9CE7-C80BB7AC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16916-D211-42AB-B5ED-BD17A659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DFCFF-1A7C-4A83-9977-32657CA0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49E38-2E1E-4E38-93F8-98BD5AC3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87B2-7B43-4A43-81C6-83EF92CD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4A489-978A-48F9-99F1-DCBA2B8B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01B90-3201-4263-9BEA-72AE8B34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AB9B6-CAA8-463E-AD61-A76A486D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7E0EA-71AB-4866-B214-C824D79B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BC327-FB7F-44F1-AF53-DD57C66A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DDDFD-54FF-4A05-A75D-1AC7A735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0F320-FEBB-4A98-AFD8-624463E3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E69F-5A63-40BA-9779-7B483DD4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CE8F-CA8F-4D2B-82C4-74E67009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308A-FE43-4D41-A42F-53AFF4E0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5156-2F5A-4AA9-A0AD-1CE30B6D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BCCF-C22F-4F98-AFCE-4D557F4F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420-8C23-4611-A742-0DD83ECA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8644-A969-4B50-BB06-46E3325A8D3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898C-E200-408E-BADA-1404E309A14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6133-A515-4EB7-B4E2-32B64B85673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apters 1 - 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sic Issues in Environmental Sc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vironmental Systems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76993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boseli National Park (case stud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What happened and whose fault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832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396360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os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01680" y="151920"/>
            <a:ext cx="8540640" cy="59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stem respons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egative feedb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most com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n increase in so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put will lead to an eventu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in that output - stabiliz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1680" y="304560"/>
            <a:ext cx="854064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sitive feedb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output increa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s to more output increa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roblem intensif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Climate Change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ich feedback system will dominat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56419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+ Positive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- Negati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stem Changes and Equilib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eple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output larger than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-4752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1680" y="228600"/>
            <a:ext cx="85406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row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output smaller than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ns on harvest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eady St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output =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tainable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tural and Human Impacts on Sy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natural disturbances tend to be in balance and life has often co-evolved with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importa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lays in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es to change not always immedi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non-linear, effects not seen for a whi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seen, may be difficult to corr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uman activity is beginning to affect environment globall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tion growth = underlying ca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i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ustainable pract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idence Ti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84232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Pollut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ick flow through (short A.R.T.) affects system quickly but recovers quickly if problem remed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1320" y="457200"/>
            <a:ext cx="731844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ow flow through (long A.R.T.) takes a longer time to show effects but longer to recover even after problem remedi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vironmental U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77756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thing affects everything els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s in one part of system has multiple effects in that system and other syst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formitari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1680" y="1371600"/>
            <a:ext cx="854064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es happening in the present were also happening in the p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gnitude and frequency of events may vary over time, but the processes are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1680" y="1218960"/>
            <a:ext cx="854064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th and all  living things are part of a singl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e greatly affects the system and regulates the planetary environment to help sustain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of Environme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1680" y="1219320"/>
            <a:ext cx="8540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tilitar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cological jus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esthe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cautionary Prici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re is a global threat of serious or maybe irreversible environmental damag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should not wait till all the scientific evidence is in before taking steps to prevent the potential problem from occu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of Coral Reef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hreatens The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Knowledge is Critic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led Experi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ent vari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ati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vironmental science i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785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4:29:50Z</dcterms:created>
  <dc:creator>tosborne</dc:creator>
  <dc:description/>
  <dc:language>en-US</dc:language>
  <cp:lastModifiedBy>Teri Osborne</cp:lastModifiedBy>
  <dcterms:modified xsi:type="dcterms:W3CDTF">2011-09-04T18:45:31Z</dcterms:modified>
  <cp:revision>22</cp:revision>
  <dc:subject/>
  <dc:title>Basic Issues in Environmental Science</dc:title>
</cp:coreProperties>
</file>